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520" y="421704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080" y="182880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421704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2080" y="421704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4480" y="182880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95800" y="182880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520" y="421704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4480" y="421704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95800" y="421704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2080" y="182880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182880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520" y="421704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82880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2080" y="421704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82880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421704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520" y="421704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080" y="182880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421704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2080" y="421704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64480" y="182880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95800" y="182880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3520" y="421704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64480" y="421704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95800" y="421704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2080" y="182880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82880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520" y="421704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080" y="182880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2080" y="421704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080" y="182880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520" y="421704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07696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rmAutofit/>
          </a:bodyPr>
          <a:p>
            <a:pPr marL="343080" indent="-343080">
              <a:spcBef>
                <a:spcPts val="249"/>
              </a:spcBef>
              <a:buClr>
                <a:srgbClr val="99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2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249"/>
              </a:spcBef>
              <a:buClr>
                <a:srgbClr val="9999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24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24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24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388440" algn="ctr">
              <a:spcBef>
                <a:spcPts val="24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777240" algn="ctr">
              <a:spcBef>
                <a:spcPts val="2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3" marL="1165680" algn="ctr">
              <a:spcBef>
                <a:spcPts val="249"/>
              </a:spcBef>
              <a:buClr>
                <a:srgbClr val="9999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4" marL="1554480" algn="ctr">
              <a:spcBef>
                <a:spcPts val="24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5" marL="1554480">
              <a:spcBef>
                <a:spcPts val="10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6" marL="1554480">
              <a:spcBef>
                <a:spcPts val="10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371600" y="304920"/>
            <a:ext cx="6019920" cy="79992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r. Martin Luther King Jr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09680" y="4648320"/>
            <a:ext cx="5181840" cy="87624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I Have a Dream"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Ethos: Appeal to the speaker’s credibility</a:t>
            </a: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07696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rmAutofit/>
          </a:bodyPr>
          <a:p>
            <a:pPr marL="343080" indent="-343080">
              <a:spcBef>
                <a:spcPts val="249"/>
              </a:spcBef>
              <a:buClr>
                <a:srgbClr val="99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rin Luther King Jr. was a respected Civil Rights leader and speak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99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e himself had been subjected to racism and oppression because of the color of his ski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Rhetoric in “I have a dream” speech</a:t>
            </a: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07696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rmAutofit/>
          </a:bodyPr>
          <a:p>
            <a:pPr marL="343080" indent="-343080">
              <a:spcBef>
                <a:spcPts val="249"/>
              </a:spcBef>
              <a:buClr>
                <a:srgbClr val="99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rtin Luther King Jr. used many rhetoric devices within his speech to reach his audience on a different leve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99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e also used Logos, Pathos, and Ethos to better communicate the meaning behind his speech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Metaphor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07696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rmAutofit/>
          </a:bodyPr>
          <a:p>
            <a:pPr marL="343080" indent="-343080">
              <a:spcBef>
                <a:spcPts val="249"/>
              </a:spcBef>
              <a:buClr>
                <a:srgbClr val="99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lames of withering injustice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99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nlit path of racial justice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99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ains of discrimination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99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se figures of speech help in exemplifying a positive or negative connotation with certain points MLK is mak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Allusion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07696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rmAutofit/>
          </a:bodyPr>
          <a:p>
            <a:pPr marL="343080" indent="-343080">
              <a:spcBef>
                <a:spcPts val="224"/>
              </a:spcBef>
              <a:buClr>
                <a:srgbClr val="99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ve score years ago, a great American…signed the Emancipation Proclamation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buClr>
                <a:srgbClr val="99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nalienable Rights” of “Life, Liberty, and the pursuit of Happines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buClr>
                <a:srgbClr val="99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allusions bring up the point that based on our nation’s past actions and foundations, black men should be fre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Anaphora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07696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rmAutofit/>
          </a:bodyPr>
          <a:p>
            <a:pPr marL="343080" indent="-343080">
              <a:spcBef>
                <a:spcPts val="224"/>
              </a:spcBef>
              <a:buClr>
                <a:srgbClr val="99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w is the time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buClr>
                <a:srgbClr val="99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have a dream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buClr>
                <a:srgbClr val="99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t freedom ring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buClr>
                <a:srgbClr val="99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repetition of these words helps to establish a rhythm that allows the words to sink into the minds of the audience.  It produces an emotional effect that connects the audience with the speak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Personification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99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nation will rise up and live out the true meaning of its creed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99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have also come to this hallowed spot to remind America…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99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used to address the population of America as a whole and make them seem as one, all united.  It also refers to how America is corrupt in not following the freedom that it stands fo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Other Device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07696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99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enn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chitects of our republic” for founding fath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99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tithe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ineteen sixty-three is not an end, but a beginning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99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astrop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rom every mountainside, let freedom ring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Logos: Appeal to logic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99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 many of our white brothers, as evidenced by their presence here today, have come to realize that their destiny is tied up with our destiny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99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can never be satisfied as long as our children are stripped of their self-hood and dignity by a sign stating: For Whites Only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Pathos: Appeal to the audience’s emotion</a:t>
            </a: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07696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99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some of you have come from areas where your quest—quest for freedom left you battered by the storms of persecution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99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e day…little black boys and black girls will be able to join hands with little white boys and white girls as sisters and brothers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99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ntions “God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21:14:41Z</dcterms:created>
  <dc:creator>kerryroesch@atlanticbb.net</dc:creator>
  <dc:description/>
  <dc:language>en-US</dc:language>
  <cp:lastModifiedBy>kerryroesch@atlanticbb.net</cp:lastModifiedBy>
  <dcterms:modified xsi:type="dcterms:W3CDTF">2008-04-16T00:39:08Z</dcterms:modified>
  <cp:revision>22</cp:revision>
  <dc:subject/>
  <dc:title>Slide 1</dc:title>
</cp:coreProperties>
</file>